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6C0E4-EECA-425E-BEAE-894EA91E0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1861-D9A7-4433-9693-8D6279940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3F325-13A3-4CF9-AF12-5E64922C9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F41B5-59F5-4201-ACCD-1AAEA690C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F623E-1EC7-436A-A3CC-CE2AE4B0C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211A2-A02A-4DBC-8736-7117A9A4F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D4DE8-E773-4DC4-A4BF-9B5699732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DF08F-F950-496A-A575-2A735584D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09AF1-C369-494F-A211-CF683B6EE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98951-B79C-4774-B46E-1DF0F1426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8BF00-9C77-43ED-8FCB-0FACCBA99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A6B45-0E6C-47B3-B633-A726011D9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14974-2C02-4663-ADF1-2DB8E51DF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96332-827B-4880-98E2-44588FCD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3DDD9-65B8-4DD0-BB27-34851B61F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FFFF3-5305-4097-B112-00756EA78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2A623-5B76-4C7C-A4B2-7F028E426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40018-AD09-424F-8096-C3D36354A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1AD3F-EC7C-4537-8C75-EBEB2D96D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325F9-D01E-4BBD-B957-76C1F702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C872-EEC7-4B3D-ACC9-D1163116E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E207-70D3-4DA5-B775-E73BAA9EE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7021-B11E-4E84-A669-A16B1C000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E38D-199F-46D6-B3BB-7D2E867AB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31B6-6D71-4CED-BE80-D125707E3B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4CC7-6787-4A75-B47F-6E484E0A01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slibrary.gov/cgi-bin/page.cgi/aa/tubman" TargetMode="External"/><Relationship Id="rId3" Type="http://schemas.openxmlformats.org/officeDocument/2006/relationships/hyperlink" Target="http://www.americaslibrary.gov/aa/tubman/aa_tubman_subj_e.html"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cessexcellence.org/RC/AB/BC/Spontaneous_Generation.php" TargetMode="External"/><Relationship Id="rId3" Type="http://schemas.openxmlformats.org/officeDocument/2006/relationships/hyperlink" Target="http://www.accessexcellence.org/RC/AB/BC/Louis_Pasteur.php"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slibrary.gov/cgi-bin/page.cgi/aa/activists/addams" TargetMode="External"/><Relationship Id="rId3" Type="http://schemas.openxmlformats.org/officeDocument/2006/relationships/hyperlink" Target="http://www.americaslibrary.gov/aa/addams/aa_addams_subj_e.html"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slibrary.gov/aa/keller/aa_keller_subj_e.html"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3</a:t>
            </a:r>
            <a:r>
              <a:rPr b="0" lang="en-US" sz="4400" spc="-1" strike="noStrike" baseline="30000">
                <a:solidFill>
                  <a:srgbClr val="b7e7ff"/>
                </a:solidFill>
                <a:latin typeface="Arial"/>
              </a:rPr>
              <a:t>rd</a:t>
            </a:r>
            <a:r>
              <a:rPr b="0" lang="en-US" sz="4400" spc="-1" strike="noStrike">
                <a:solidFill>
                  <a:srgbClr val="b7e7ff"/>
                </a:solidFill>
                <a:latin typeface="Arial"/>
              </a:rPr>
              <a:t> Grade Research Project</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 Dec. 200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Ms. Ha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istorical Figures to choose from:</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ous 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n McKinney</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For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y Crocket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uis Paste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3"/>
          <p:cNvSpPr>
            <a:spLocks noGrp="1"/>
          </p:cNvSpPr>
          <p:nvPr>
            <p:ph/>
          </p:nvPr>
        </p:nvSpPr>
        <p:spPr>
          <a:xfrm>
            <a:off x="4651200" y="1676160"/>
            <a:ext cx="419112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ous Wo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e Addam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en Kell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riet Tubm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lin McKinney</a:t>
            </a:r>
            <a:endParaRPr b="0" lang="en-US" sz="4400" spc="-1" strike="noStrike">
              <a:solidFill>
                <a:srgbClr val="b7e7ff"/>
              </a:solidFill>
              <a:latin typeface="Arial"/>
            </a:endParaRPr>
          </a:p>
        </p:txBody>
      </p:sp>
      <p:sp>
        <p:nvSpPr>
          <p:cNvPr id="8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ioneer leader of North Texas and signer of the Texas Declaration Of Independence, Collin McKinney was born in New Jersey, as son of Scottish immigrant parents. In 1780 the family moved to Kentucky and in 1824 McKinney migrated across the Red River and settled near present Texarkana.</a:t>
            </a:r>
            <a:br>
              <a:rPr sz="1800"/>
            </a:br>
            <a:r>
              <a:rPr b="1" lang="en-US" sz="1800" spc="-1" strike="noStrike">
                <a:solidFill>
                  <a:srgbClr val="ffffff"/>
                </a:solidFill>
                <a:latin typeface="Arial"/>
              </a:rPr>
              <a:t>In January, 1836, he was elected a delegate to the general convention at Washington-On-The-Brazos and there served on a committee of five that drafted Texas' Declaration of Independence from Mexico. On March 2, he signed the document. He also served on the committee that prepared the constitution for  the Republic Of Texas. Later he served in the 1st, 2nd and 4th congresses of the republic. In private life, McKinney was a leader in establishing the first Disciples Of Christ Church in Texas. In 1846 he settled near the Grayson-Collin county line. This became his permanent residence. In 1792 he married Ann Moore; they had four children. He and his second wife,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sy Leake (Coleman), by whom he had six children,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 both buried in this cemetery.</a:t>
            </a:r>
            <a:br>
              <a:rPr sz="1800"/>
            </a:br>
            <a:r>
              <a:rPr b="1" lang="en-US" sz="1800" spc="-1" strike="noStrike">
                <a:solidFill>
                  <a:srgbClr val="ffffff"/>
                </a:solidFill>
                <a:latin typeface="Arial"/>
              </a:rPr>
              <a:t>Collin County and its seat, McKinney, were named in his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nor. In 1936 the Texas Centennial Commission had his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use moved to Finch Park in McKinney. </a:t>
            </a:r>
            <a:r>
              <a:rPr b="0" lang="en-US" sz="1800" spc="-1" strike="noStrike">
                <a:solidFill>
                  <a:srgbClr val="ffffff"/>
                </a:solidFill>
                <a:latin typeface="Arial"/>
              </a:rPr>
              <a:t>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therestorationmovement.com/mckinney,_collin.htm</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 descr=""/>
          <p:cNvPicPr/>
          <p:nvPr/>
        </p:nvPicPr>
        <p:blipFill>
          <a:blip r:embed="rId2"/>
          <a:stretch/>
        </p:blipFill>
        <p:spPr>
          <a:xfrm>
            <a:off x="7315200" y="4314960"/>
            <a:ext cx="1828800" cy="25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arriet Tubman</a:t>
            </a:r>
            <a:r>
              <a:rPr b="0" lang="en-US" sz="4000" spc="-1" strike="noStrike">
                <a:solidFill>
                  <a:srgbClr val="b7e7ff"/>
                </a:solidFill>
                <a:latin typeface="Arial"/>
              </a:rPr>
              <a:t>	</a:t>
            </a:r>
            <a:br>
              <a:rPr sz="4000"/>
            </a:br>
            <a:endParaRPr b="0" lang="en-US" sz="4000" spc="-1" strike="noStrike">
              <a:solidFill>
                <a:srgbClr val="b7e7ff"/>
              </a:solidFill>
              <a:latin typeface="Arial"/>
            </a:endParaRPr>
          </a:p>
        </p:txBody>
      </p:sp>
      <p:sp>
        <p:nvSpPr>
          <p:cNvPr id="91"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riet Tubman was a runaway slave from Maryland who became known as the "Moses of her people." Over the course of 10 years, and at great personal risk, she led hundreds of slaves to freedom along the Underground Railroad, a secret network of safe houses where runaway slaves could stay on their journey north to freedom. She later became a leader in the abolitionist movement, and during the Civil War she was a spy for the federal forces in South Carolina as well as a nurs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2"/>
              </a:rPr>
              <a:t>http://www.americaslibrary.gov/cgi-bin/page.cgi/aa/tubma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 descr="Harriet Tubman">
            <a:hlinkClick r:id="rId3"/>
          </p:cNvPr>
          <p:cNvPicPr/>
          <p:nvPr/>
        </p:nvPicPr>
        <p:blipFill>
          <a:blip r:embed="rId4"/>
          <a:stretch/>
        </p:blipFill>
        <p:spPr>
          <a:xfrm>
            <a:off x="67816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Louis Pasteur</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one were to choose among the greatest benefactors of humanity, Louis Pasteur would certainly rank at the top. He solved the mysteries of rabies, anthrax, chicken cholera, and silkworm diseases, and contributed to the development of the first vaccines. He debunked the widely accepted myth of </a:t>
            </a:r>
            <a:r>
              <a:rPr b="0" lang="en-US" sz="1600" spc="-1" strike="noStrike" u="sng">
                <a:solidFill>
                  <a:srgbClr val="ffcc00"/>
                </a:solidFill>
                <a:uFillTx/>
                <a:latin typeface="Arial"/>
                <a:hlinkClick r:id="rId2"/>
              </a:rPr>
              <a:t>spontaneous generation</a:t>
            </a:r>
            <a:r>
              <a:rPr b="0" lang="en-US" sz="1600" spc="-1" strike="noStrike">
                <a:solidFill>
                  <a:srgbClr val="ffffff"/>
                </a:solidFill>
                <a:latin typeface="Arial"/>
              </a:rPr>
              <a:t>, thereby setting the stage for modern biology and biochemistry. He described the scientific basis for fermentation, wine-making, and the brewing of beer. Pasteur's work gave birth to many branches of science, and he was singlehandedly responsible for some of the most important theoretical concepts and practical applications of modern science.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hlinkClick r:id="rId3"/>
              </a:rPr>
              <a:t>http://www.accessexcellence.org/RC/AB/BC/Louis_Pasteur.php</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5" name="" descr=""/>
          <p:cNvPicPr/>
          <p:nvPr/>
        </p:nvPicPr>
        <p:blipFill>
          <a:blip r:embed="rId4"/>
          <a:stretch/>
        </p:blipFill>
        <p:spPr>
          <a:xfrm>
            <a:off x="5486400" y="2220840"/>
            <a:ext cx="2521080" cy="333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Jane Addams</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e Addams is best known as the founder of Hull House, a place that provided aid to poor working-class families in Chicago. These centers are often called "settlement houses." Born into a wealthy family, Addams was one of a small number of women in her generation to graduate from college. Her commitment to improving the lives of those around her led to her work for social reform and world peace.</a:t>
            </a:r>
            <a:r>
              <a:rPr b="0" lang="en-US" sz="3200" spc="-1" strike="noStrike">
                <a:solidFill>
                  <a:srgbClr val="ffffff"/>
                </a:solidFill>
                <a:latin typeface="Arial"/>
              </a:rPr>
              <a:t> </a:t>
            </a:r>
            <a:br>
              <a:rPr sz="3200"/>
            </a:br>
            <a:r>
              <a:rPr b="0" lang="en-US" sz="2000" spc="-1" strike="noStrike" u="sng">
                <a:solidFill>
                  <a:srgbClr val="ffcc00"/>
                </a:solidFill>
                <a:uFillTx/>
                <a:latin typeface="Arial"/>
                <a:hlinkClick r:id="rId2"/>
              </a:rPr>
              <a:t>http://www.americaslibrary.gov/cgi-bin/page.cgi/aa/activists/addam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 descr="Jane Addams, founder of Hull House">
            <a:hlinkClick r:id="rId3"/>
          </p:cNvPr>
          <p:cNvPicPr/>
          <p:nvPr/>
        </p:nvPicPr>
        <p:blipFill>
          <a:blip r:embed="rId4"/>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avy Crockett</a:t>
            </a:r>
            <a:endParaRPr b="0" lang="en-US" sz="4400" spc="-1" strike="noStrike">
              <a:solidFill>
                <a:srgbClr val="b7e7ff"/>
              </a:solidFill>
              <a:latin typeface="Arial"/>
            </a:endParaRPr>
          </a:p>
        </p:txBody>
      </p:sp>
      <p:sp>
        <p:nvSpPr>
          <p:cNvPr id="100" name="PlaceHolder 2"/>
          <p:cNvSpPr>
            <a:spLocks noGrp="1"/>
          </p:cNvSpPr>
          <p:nvPr>
            <p:ph/>
          </p:nvPr>
        </p:nvSpPr>
        <p:spPr>
          <a:xfrm>
            <a:off x="3465360" y="1676160"/>
            <a:ext cx="537696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y Crockett, the celebrated hero, warrior and backwoods statesman, was born August 17, 1786 in a small cabin on the banks of the romantic Nolichucky River.  Davy Crockett stands for the Spirit of the American Frontier. As a young man he was a crafty Indian fighter and hunter. When he was forty-nine years old, he died a hero's death at the Alamo, helping Texas win independence from Mexico. For many years he was nationally known as a political representative of the frontier. http://www.americanwest.com/pages/davycroc.htm</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 descr=""/>
          <p:cNvPicPr/>
          <p:nvPr/>
        </p:nvPicPr>
        <p:blipFill>
          <a:blip r:embed="rId2"/>
          <a:stretch/>
        </p:blipFill>
        <p:spPr>
          <a:xfrm>
            <a:off x="387360" y="1676520"/>
            <a:ext cx="2803680" cy="29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elen Keller</a:t>
            </a:r>
            <a:endParaRPr b="0" lang="en-US" sz="4400" spc="-1" strike="noStrike">
              <a:solidFill>
                <a:srgbClr val="b7e7ff"/>
              </a:solidFill>
              <a:latin typeface="Arial"/>
            </a:endParaRPr>
          </a:p>
        </p:txBody>
      </p:sp>
      <p:sp>
        <p:nvSpPr>
          <p:cNvPr id="1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Helen Keller was 19 months old, she got sick and lost her sight and hearing. Her accomplishments as a deaf and blind person were an inspiration to millions. She believed that "true sight and hearing are within, not without." With the help of her lifelong teacher and assistant, Anne Sullivan, Helen Keller learned to read, write, and speak. During her lifetime she graduated from college; became a best selling author; traveled around the world; met with Presidents, world leaders, celebrities, and ordinary people; and serve as an advocate for social justice and for people with disabilities. </a:t>
            </a:r>
            <a:endParaRPr b="0" lang="en-US" sz="20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mericaslibrary.gov/cgi-bin/page.cgi/aa/activists/kell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keller">
            <a:hlinkClick r:id="rId2"/>
          </p:cNvPr>
          <p:cNvPicPr/>
          <p:nvPr/>
        </p:nvPicPr>
        <p:blipFill>
          <a:blip r:embed="rId3"/>
          <a:stretch/>
        </p:blipFill>
        <p:spPr>
          <a:xfrm>
            <a:off x="155520" y="46080"/>
            <a:ext cx="1673280" cy="16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enry Ford</a:t>
            </a:r>
            <a:endParaRPr b="0" lang="en-US" sz="4400" spc="-1" strike="noStrike">
              <a:solidFill>
                <a:srgbClr val="b7e7ff"/>
              </a:solidFill>
              <a:latin typeface="Arial"/>
            </a:endParaRPr>
          </a:p>
        </p:txBody>
      </p:sp>
      <p:sp>
        <p:nvSpPr>
          <p:cNvPr id="106" name="PlaceHolder 2"/>
          <p:cNvSpPr>
            <a:spLocks noGrp="1"/>
          </p:cNvSpPr>
          <p:nvPr>
            <p:ph/>
          </p:nvPr>
        </p:nvSpPr>
        <p:spPr>
          <a:xfrm>
            <a:off x="4651200" y="1676160"/>
            <a:ext cx="4191120" cy="442260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ry Ford, born July 30, 1863, was the first of William and Mary Ford's six children. He grew up on a prosperous family farm in what is today Dearborn, Michigan. Henry enjoyed a childhood typical of the rural nineteenth century, spending days in a one-room school and doing farm chores. At an early age, he showed an interest in mechanical things and a dislike for farm work.</a:t>
            </a: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9, sixteen-year-old Ford left home for the nearby city of Detroit to work as an apprentice machinist, although he did occasionally return to help on the farm. He remained an apprentice for three years and then returned to Dearborn. During the next few years, Henry divided his time between operating or repairing steam engines, finding occasional work in a Detroit factory, and over-hauling his father's farm implements, as well as lending a reluctant hand with other farm work. Upon his marriage to Clara Bryant in 1888, Henry supported himself and his wife by running a sawmill. After two unsuccessful attempts to establish a company to manufacture automobiles, the Ford Motor Company was incorporated in 1903 with Henry Ford as vice-president and chief engineer. Henry Ford realized his dream of producing an automobile that was reasonably priced, reliable, and efficient with the introduction of the Model T in 1908. </a:t>
            </a: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fmgv.org/EXHIBITS/HF/</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7" name="" descr=""/>
          <p:cNvPicPr/>
          <p:nvPr/>
        </p:nvPicPr>
        <p:blipFill>
          <a:blip r:embed="rId2"/>
          <a:stretch/>
        </p:blipFill>
        <p:spPr>
          <a:xfrm>
            <a:off x="1433520" y="2946240"/>
            <a:ext cx="1927080" cy="1881360"/>
          </a:xfrm>
          <a:prstGeom prst="rect">
            <a:avLst/>
          </a:prstGeom>
          <a:ln w="0">
            <a:noFill/>
          </a:ln>
        </p:spPr>
      </p:pic>
      <p:pic>
        <p:nvPicPr>
          <p:cNvPr id="108" name="" descr=""/>
          <p:cNvPicPr/>
          <p:nvPr/>
        </p:nvPicPr>
        <p:blipFill>
          <a:blip r:embed="rId3"/>
          <a:stretch/>
        </p:blipFill>
        <p:spPr>
          <a:xfrm>
            <a:off x="3276720" y="2895480"/>
            <a:ext cx="590400" cy="192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22:00:10Z</dcterms:created>
  <dc:creator>misd</dc:creator>
  <dc:description/>
  <dc:language>en-US</dc:language>
  <cp:lastModifiedBy>misd</cp:lastModifiedBy>
  <dcterms:modified xsi:type="dcterms:W3CDTF">2008-11-25T22:12:04Z</dcterms:modified>
  <cp:revision>8</cp:revision>
  <dc:subject/>
  <dc:title>3rd Grade Research Project</dc:title>
</cp:coreProperties>
</file>